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64B-BC59-4DCB-80C0-DBCAE4B4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FF0-F165-49BA-B3A7-44EE022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EC1-4802-4731-AF09-261E516F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4AE-33F1-4DC3-9D40-39F9EF2F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89F-A217-4E60-89AC-C1AA124D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FC1-CA3A-4DBA-B82C-99EE22F7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7BA-223C-4A60-9FF5-4BE9B3FE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170-C31F-4D3F-BA8B-A3B116CE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E3B0-0D73-4D74-882E-709E2F7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79E-5FC2-4852-A5E8-CC9F467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1739-66AA-4148-8F36-2A83E62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6E8-9B50-4399-BFE2-A80C4045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308-0E4E-45BF-97B0-B8033FA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BFB9-0E7A-469C-9CA6-DA69731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D360-9DC5-47DA-BA8B-0D3CC174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9B74-15BC-4801-BA43-8FAF1621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BFC1-4486-48F7-8259-9B6E2468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C5F3-8B93-4E99-B171-6D201BE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02EF-3A2D-4D74-BB59-650A5E52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31BC-1DF6-4D7D-AD56-F53AA6D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6D98-6888-4B05-9243-FC026B6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734D-06D8-4074-8D86-4CA9A2FA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621-6527-4E75-92BA-0DC402A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388F-CC7B-4509-BFD6-B53C0F5E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EC29-39A3-44E0-A150-7E24FDC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BC04-23F6-40A6-9BF6-45DC26C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B7ED-85E5-45AF-B6CD-528BFC4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5E97-86BF-4EB6-B7F4-DB9954DF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989E-DE81-4593-AAEA-50F41748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C2D4-DD54-471C-9B7D-AFC881E2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4F15-8DE6-4B64-9C27-ED4E0A73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B37C-7168-4E97-A284-C04D7754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AC7B-DE2E-4ECA-8324-E2B0EAE7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AA0-C191-4A25-A9BD-2678B8C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2165-EDA2-4D6E-BF91-204691D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5589-A487-411D-AB9D-8FA8EF3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716E-2705-4ABA-955B-131E0C9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6776-16D7-44B5-BA9D-2EC7FFE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E189-89DF-48C5-B4D8-AD9D108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FA91-635A-4AB4-810F-B390D24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6C6B-FC9B-45BD-AF0D-B1364783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8D5A-8579-48E6-AC2A-E4C4E4B0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B83D-ADBB-4DB1-BFAD-8CC6DAFC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FE5-1349-4C41-A687-0D30D5EE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562-E4FB-4BBF-8CA3-9284020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D8A-D85B-4181-AD70-2BB2B65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9B8-083A-43AF-B17B-685EFC9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E54-65E3-4FD1-B257-E71188F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83570-F6B9-43D9-B286-0F2F6E483FE1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22A9D-7454-4E85-B70D-F56847FAF2C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4B018-7B79-47F2-8439-81021E15C734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1D962-2A6A-4A60-9712-DC1631CDFFB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D6374-E957-4EF3-8ACD-73BCE522705D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0520B-C2A4-41D0-AF3A-5EAE76E8AC0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5F4C-7487-4862-93D8-217D97C5126E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6B73E-6523-48D8-BD55-10940F99C91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NICA’ lif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Subtitle 2"/>
          <p:cNvSpPr/>
          <p:nvPr/>
        </p:nvSpPr>
        <p:spPr>
          <a:xfrm>
            <a:off x="6188040" y="5164200"/>
            <a:ext cx="1112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ubtitle 2"/>
          <p:cNvSpPr/>
          <p:nvPr/>
        </p:nvSpPr>
        <p:spPr>
          <a:xfrm>
            <a:off x="6188040" y="5164200"/>
            <a:ext cx="911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ubtitle 2"/>
          <p:cNvSpPr/>
          <p:nvPr/>
        </p:nvSpPr>
        <p:spPr>
          <a:xfrm flipH="1">
            <a:off x="581760" y="5164200"/>
            <a:ext cx="1249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P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7505640" y="5316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as born in Mexico, April 2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199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as in México, with my friend I had 5 friend in Mex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as six year old in I came to the  USA to learn math in other 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came to school in the  USA because my dad was in the USA I was sad to leave my  friend in Mexico because my family was in Mexico to. I was sad to leave Mexico because a had los for friend my friend where sad the I have leave Mexico because my dad was in USA  I was sad to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going to Imiddl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going to  Méx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happy to in the USA because have los for friend in the USA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happy to go to Imiddle school because I los friend in I middle . I am going to go again to Mexico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going to a good college and I am happ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happy to lever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dia Di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9:43:55Z</dcterms:created>
  <dc:creator>City School</dc:creator>
  <dc:description/>
  <dc:language>en-US</dc:language>
  <cp:lastModifiedBy>City School</cp:lastModifiedBy>
  <dcterms:modified xsi:type="dcterms:W3CDTF">2012-09-20T20:11:41Z</dcterms:modified>
  <cp:revision>13</cp:revision>
  <dc:subject/>
  <dc:title>MONICA’ life</dc:title>
</cp:coreProperties>
</file>